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1AC-9096-41E6-AA2C-29188441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68B-32D0-47F3-844E-5F8D132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7F3-05BA-4392-A3CE-B8C0D1AC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CF5-857D-48BD-9428-468FE678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6EA-3270-4B09-A673-3F9BE53B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51E-30FC-4CF4-8DFA-50318DA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DE4-57CC-4004-8839-4221FBE8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2EE-B431-4E38-8F1B-E1759C0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5DF-268B-4186-AA85-5E96A3F7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13F-A9B1-4112-880B-4CD338B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103-5BEB-4CA5-98A0-B9AD76C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E43-7623-4D80-83EA-DCBB8ED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1EE-0D57-43C3-818B-D4336A083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Reassessment9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Reassessment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Reassessment11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Reassessment12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Reassessment1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Reassessment2.jpg"/>
          <p:cNvPicPr/>
          <p:nvPr/>
        </p:nvPicPr>
        <p:blipFill>
          <a:blip r:embed="rId1"/>
          <a:stretch/>
        </p:blipFill>
        <p:spPr>
          <a:xfrm>
            <a:off x="752400" y="819000"/>
            <a:ext cx="7639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Reassessment3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Reassessment4.jpg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Reassessment5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Reassessment6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Reassessment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Reassessment8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39:19Z</dcterms:created>
  <dc:creator>zcui</dc:creator>
  <dc:description/>
  <dc:language>en-US</dc:language>
  <cp:lastModifiedBy>rbalne</cp:lastModifiedBy>
  <dcterms:modified xsi:type="dcterms:W3CDTF">2009-08-12T14:04:27Z</dcterms:modified>
  <cp:revision>2</cp:revision>
  <dc:subject/>
  <dc:title>TRAC</dc:title>
</cp:coreProperties>
</file>